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871D-22D1-465E-A522-2164F437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E4DF-187D-4A94-B8D0-8768A14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E94C-A7CC-4D71-896C-DBF82D5C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A771-C432-465F-BCE7-98281655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344B-1684-4E9F-A368-FAC2D9F2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1FB-F31C-4F08-B50A-31050C3A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55D-A6CF-45FE-A91C-39B0E88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80D-BEF0-4327-8F38-5CFFAB97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64FC-7697-4F45-87F7-FA64FD05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494-D1FD-4FB2-95B9-D1D3BE63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0FD1-7150-4116-839E-34458B6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2A8D-7BB0-49BB-85FC-7BB2E6F7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777F-4A60-4935-8BDB-80DC1C5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EDB-8FC6-49F4-89C0-5031CEBD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74F-6B75-4C7A-9BC0-BCB20D79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799-58C5-46B9-AA90-0DDF4266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A41-610D-4AB3-8A66-BA91715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6F0E-5B9D-435F-AC0F-B510951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6D60-081F-4ABA-9E31-23259F0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B051-30B9-42E6-9040-DDD2D9E2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05D0-3670-4ACA-865F-EE7755D8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34CF-1E2A-4149-BF81-9DC1209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D040-A357-408E-A87B-7B737E4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A134-E7F6-4FEB-95FC-BD960AE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99E-4786-434E-B064-C1A9AA3729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CBF8-39A4-45C6-9973-10B2314E9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Aminosäure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on: Imke Spö. und J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stell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m Abbau der Proteine zu einem Aminosäuregemisch, die durch spezifische Verfahren isoliert werden 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der Umsetzung von Halogencarbonsäuren mit Ammoni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s </a:t>
            </a: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Miller-Experiment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zeigte, wie die Aminosäuren und andere Moleküle zu Beginn der Erdgeschichte entstanden sein könn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ndprodukte: Teer, unbedeutende Carbonsäuren, Aminosäuren (u.a. Glycin und Alani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veränderter Zusammensetzung auch Kohlenhydrate, Nucleotide und Fettsäu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969 fand man dieselbe Aminosäurezusammensetzung in einem Meteoriten in Australi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1640" y="5589720"/>
            <a:ext cx="2592360" cy="790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 wird erhit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3573360"/>
            <a:ext cx="208908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dampf steigt 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45080" y="476280"/>
            <a:ext cx="35989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aktionsk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than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125360"/>
            <a:ext cx="2521080" cy="79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tstehung der Aminosäu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NA 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nd zwei in helixform umeinander gewundene Doppelstr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steht aus Basen (Adenin, Guanin, Cytosin, Thymin), Zucker und Phosph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peichert sämtliche für jeden Menschen individuelle Erbinformationen, aufgrund dessen ergeben sich die vielen wissenschaftlichen Einsatzgebi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riminalbi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aterschfts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NA-Fingerprint-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rchäologie und Evolutionsforsch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s Nahrungsergänzungsmittel für Sport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ielen lieben Dank für eure Aufmerksamke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 Schlu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nktio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scher Aufba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teilung der Grup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äure-Base-Eigenscha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elle Aminosäu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stel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A /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ssenschaftlicher Nut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rganische Säu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arbonsäuren deren funktionelle Gruppen sowohl eine Carboxyl- als auch eine Aminogruppe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sten Bausteine der Prote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0 verschiedene Aminosäuren in den Protei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xistieren auf der Erde bereits seit 3 Mrd. Jahren (auch in Mondgestein und Meteori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ktio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fbau von Peptiden und Proteinen, aus denen wiederum Muskulatur, Zellwände, Hormone, Enzyme etc. aufgebau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der Neurochemie spielen Aminosäuren und ihre Derivate eine wichtige Rolle als Neurotransmi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uffer= sind in der Lage den pH-Wert des Gewebes zu regul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scher Aufba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äure mit einer Carboxyl- und Aminogru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infachste ist das Gl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Um daraus weitere aufzubauen, wird ein H-Atom am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-C-Atom abgespalten und durch eine Seitenkette (-R) ersetz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Seitenkette bestimmt die chem. und physikalischen Eigenschaften der Aminosä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nteilung der Grupp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Neutrale Aminosäuren: Glycin, Alanin, Serin, Threonin, Valin, Leucin, Isoleuc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aure Aminosäuren enthalten zusätzlich eine Carboxylgruppe. Zu ihnen gehören: Arpartat, Asparagin, Glutamat, Glutam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Baische Aminosäuren enthalten zusätzlich eine Aminogruppe. Zu ihnen zählen: Arginin, Lysin, Hydroxylys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olar: (hydrophil) Seitenkette enthält eine Hydroxyl- oder Sulfhydrylgruppe z.B. Ser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Unpolar: (hydrophob) Seitenkette enthält Kohlenwasserstoffreste z.B. Al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äure-Base-Eigenschaf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Ungeladener Zustand existiert praktisch nic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ind Zwitterionen (Ampholyte), d.h. reagieren sowohl als Base als auch als Sä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durch Pufferfunktion des pH-Wertes im Kör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rhöhung des pH-Wertes: Wasserstoffion wird an die 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Gruppe abgegeben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positiven Kation (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3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Erniedrigung des pH-Wertes: Abgabe eines Wasserstoffions der COOH Grupp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negativ geladenen Anion (COO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Weitere wichtige Aufgabe,  gerät der pH-Wert des Gewebes nur minimal aus dem Gleichgewicht, werden viele Körperunktionen beeinträchtigt → T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748720" cy="2820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692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äure-Base-Verhal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sentielle Aminosäu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nnen vom Körper nicht selbst synthetisiert werden, sondern müssen über die Nahrung aufgenommen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i-essentiell: müssen nur bei erhöhtem Bedarf (z-B. Schwangerschaft) zugefü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gel führt zu einem Stocken der Eiweißsyn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bedrohliche Mangelerschein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05:57Z</dcterms:created>
  <dc:creator>Imke</dc:creator>
  <dc:description/>
  <dc:language>en-US</dc:language>
  <cp:lastModifiedBy>Imke</cp:lastModifiedBy>
  <dcterms:modified xsi:type="dcterms:W3CDTF">2006-11-16T05:26:01Z</dcterms:modified>
  <cp:revision>15</cp:revision>
  <dc:subject/>
  <dc:title>Aminosäuren</dc:title>
</cp:coreProperties>
</file>